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D1D2C-1D70-4E54-91DA-3145ECF25ED1}" type="datetime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78113-0995-4F51-9468-4F33C3728FB8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s should be 3-7 minutes lo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0B931-3003-4B19-8CAE-9C824784A4A7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0C0F4-085B-4F43-AF5A-ED8A56095C68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4000"/>
          </a:bodyPr>
          <a:p>
            <a:pPr marL="28800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288000" indent="-28800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288000" indent="-28800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" name="Line 2"/>
          <p:cNvSpPr/>
          <p:nvPr/>
        </p:nvSpPr>
        <p:spPr>
          <a:xfrm>
            <a:off x="647640" y="474984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3" name="Picture 4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51" name="Line 2"/>
          <p:cNvSpPr/>
          <p:nvPr/>
        </p:nvSpPr>
        <p:spPr>
          <a:xfrm flipH="1">
            <a:off x="648828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2" name="Line 3"/>
          <p:cNvSpPr/>
          <p:nvPr/>
        </p:nvSpPr>
        <p:spPr>
          <a:xfrm>
            <a:off x="6488280" y="4476600"/>
            <a:ext cx="59958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1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8368920" y="2324160"/>
            <a:ext cx="40640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marL="21852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541080" indent="-218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905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27044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634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0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571320" y="863280"/>
            <a:ext cx="11861640" cy="802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4940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716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943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5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4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121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312120" indent="-31212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312120" indent="-31212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8" name="Line 2"/>
          <p:cNvSpPr/>
          <p:nvPr/>
        </p:nvSpPr>
        <p:spPr>
          <a:xfrm>
            <a:off x="647640" y="4749840"/>
            <a:ext cx="488160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7" name="Line 2"/>
          <p:cNvSpPr/>
          <p:nvPr/>
        </p:nvSpPr>
        <p:spPr>
          <a:xfrm>
            <a:off x="7543800" y="7975440"/>
            <a:ext cx="0" cy="142272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marL="478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1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2" marL="47880" indent="-47880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3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4" marL="47880" indent="-47880">
              <a:buClr>
                <a:srgbClr val="999999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5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6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71320" y="3708000"/>
            <a:ext cx="118616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43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185040" y="299880"/>
            <a:ext cx="738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elvetica Neue Light"/>
              </a:rPr>
              <a:t>Responsible Data Use; Presented 6 Dec 2011, AGU Data Management 101 for the Earth Scientist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82" name="Line 2"/>
          <p:cNvSpPr/>
          <p:nvPr/>
        </p:nvSpPr>
        <p:spPr>
          <a:xfrm flipH="1">
            <a:off x="906624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Line 3"/>
          <p:cNvSpPr/>
          <p:nvPr/>
        </p:nvSpPr>
        <p:spPr>
          <a:xfrm>
            <a:off x="9066240" y="309240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" name="Line 4"/>
          <p:cNvSpPr/>
          <p:nvPr/>
        </p:nvSpPr>
        <p:spPr>
          <a:xfrm>
            <a:off x="9066240" y="587376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22" name="Line 2"/>
          <p:cNvSpPr/>
          <p:nvPr/>
        </p:nvSpPr>
        <p:spPr>
          <a:xfrm>
            <a:off x="6502320" y="1803240"/>
            <a:ext cx="0" cy="43182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60" name="Line 2"/>
          <p:cNvSpPr/>
          <p:nvPr/>
        </p:nvSpPr>
        <p:spPr>
          <a:xfrm flipH="1">
            <a:off x="4430880" y="1778040"/>
            <a:ext cx="1440" cy="50544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98" name="Line 2"/>
          <p:cNvSpPr/>
          <p:nvPr/>
        </p:nvSpPr>
        <p:spPr>
          <a:xfrm flipH="1">
            <a:off x="6488280" y="507960"/>
            <a:ext cx="1440" cy="80136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36" name="Line 2"/>
          <p:cNvSpPr/>
          <p:nvPr/>
        </p:nvSpPr>
        <p:spPr>
          <a:xfrm flipH="1">
            <a:off x="44434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7" name="Line 3"/>
          <p:cNvSpPr/>
          <p:nvPr/>
        </p:nvSpPr>
        <p:spPr>
          <a:xfrm flipH="1">
            <a:off x="85456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2" name="Line 2"/>
          <p:cNvSpPr/>
          <p:nvPr/>
        </p:nvSpPr>
        <p:spPr>
          <a:xfrm>
            <a:off x="647640" y="1968480"/>
            <a:ext cx="487692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iki.esipfed.org/index.php/Data_Management_Course_Outline" TargetMode="External"/><Relationship Id="rId3" Type="http://schemas.openxmlformats.org/officeDocument/2006/relationships/hyperlink" Target="http://wiki.esipfed.org/index.php/Data_Management_Resources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nsidc.org/data/mod10a1v5.html" TargetMode="External"/><Relationship Id="rId2" Type="http://schemas.openxmlformats.org/officeDocument/2006/relationships/hyperlink" Target="http://nsidc.org/data/g02199.html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71320" y="1346040"/>
            <a:ext cx="118616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Helvetica Neue Light"/>
              </a:rPr>
              <a:t>Responsible Data Use</a:t>
            </a: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(or what should you do if you find yourself re-using someone else’s data)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83920" y="4952880"/>
            <a:ext cx="59180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uth Duerr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National Snow and Ice Data Center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41" name="Picture 5" descr=""/>
          <p:cNvPicPr/>
          <p:nvPr/>
        </p:nvPicPr>
        <p:blipFill>
          <a:blip r:embed="rId1"/>
          <a:stretch/>
        </p:blipFill>
        <p:spPr>
          <a:xfrm>
            <a:off x="635040" y="7924680"/>
            <a:ext cx="1270080" cy="139716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6" descr=""/>
          <p:cNvPicPr/>
          <p:nvPr/>
        </p:nvPicPr>
        <p:blipFill>
          <a:blip r:embed="rId2"/>
          <a:stretch/>
        </p:blipFill>
        <p:spPr>
          <a:xfrm>
            <a:off x="2311560" y="7772400"/>
            <a:ext cx="1657080" cy="1657440"/>
          </a:xfrm>
          <a:prstGeom prst="rect">
            <a:avLst/>
          </a:prstGeom>
          <a:ln w="0">
            <a:noFill/>
          </a:ln>
        </p:spPr>
      </p:pic>
      <p:sp>
        <p:nvSpPr>
          <p:cNvPr id="743" name="Rectangle 2"/>
          <p:cNvSpPr/>
          <p:nvPr/>
        </p:nvSpPr>
        <p:spPr>
          <a:xfrm>
            <a:off x="6654960" y="4952880"/>
            <a:ext cx="5918040" cy="31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Why provide feedback?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Prevent other users from repeating your mistak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Improve the data or their documentation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Better science, perhaps even new results, papers, and collaborator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A few words about providing feedback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Feedback to a PI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Your reasons for using someone else’s data are likely different than their reasons for acquiring it in the first plac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So, they probably weren’t thinking of your needs when they acquired, documented and made it availabl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Yet, if they thought their data would be useful to a community they probably would be flattered to help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Diplomacy and tact may be called for (especially if you really think you’ve found an error not just a documentation problem)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Feedback to a data center is almost always welcome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Line 1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68" name="Picture 2" descr="Logo300dpi %281%29.png"/>
          <p:cNvPicPr/>
          <p:nvPr/>
        </p:nvPicPr>
        <p:blipFill>
          <a:blip r:embed="rId1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References and Resour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Polar Information Commons ethics and norms for data sharing at http://www.polarcommons.org/ethics-and-norms-of-data-sharing.php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ata management training materials in development are available at </a:t>
            </a:r>
            <a:r>
              <a:rPr b="0" lang="en-US" sz="3400" spc="-1" strike="noStrike" u="sng">
                <a:solidFill>
                  <a:srgbClr val="009999"/>
                </a:solidFill>
                <a:uFillTx/>
                <a:latin typeface="Helvetica Neue"/>
                <a:hlinkClick r:id="rId2"/>
              </a:rPr>
              <a:t>http://wiki.esipfed.org/index.php/Data_Management_Course_Outline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 short list of data management related resources available on the web can be found at </a:t>
            </a:r>
            <a:r>
              <a:rPr b="0" lang="en-US" sz="3400" spc="-1" strike="noStrike" u="sng">
                <a:solidFill>
                  <a:srgbClr val="009999"/>
                </a:solidFill>
                <a:uFillTx/>
                <a:latin typeface="Helvetica Neue"/>
                <a:hlinkClick r:id="rId3"/>
              </a:rPr>
              <a:t>http://wiki.esipfed.org/index.php/Data_Management_Resourc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Your Responsibilities as a Data User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571320" y="2324160"/>
            <a:ext cx="11645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etermining the suitability of data for your purpos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llowing applicable data access and use policie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Giving credit to archives and data creator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Providing the data source with feedback about any errors or limitations with the data discovered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 txBox="1"/>
          <p:nvPr/>
        </p:nvSpPr>
        <p:spPr>
          <a:xfrm>
            <a:off x="558720" y="3200040"/>
            <a:ext cx="11646000" cy="426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Just because it is “good” data, doesn’t mean that it is right for your project!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orollary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Just because it isn’t right for your project, doesn’t mean that it is “bad” data!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47" name="Rectangle 3"/>
          <p:cNvSpPr/>
          <p:nvPr/>
        </p:nvSpPr>
        <p:spPr>
          <a:xfrm>
            <a:off x="482760" y="1752480"/>
            <a:ext cx="121158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48" name="Picture 3" descr=""/>
          <p:cNvPicPr/>
          <p:nvPr/>
        </p:nvPicPr>
        <p:blipFill>
          <a:blip r:embed="rId1"/>
          <a:stretch/>
        </p:blipFill>
        <p:spPr>
          <a:xfrm>
            <a:off x="2463840" y="109440"/>
            <a:ext cx="8077320" cy="961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Hints for Determining Data Suitability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571320" y="2323800"/>
            <a:ext cx="11645640" cy="704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Read any papers, documentation and metadata provided – it is there for a reason!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Se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Helvetica Neue"/>
                <a:hlinkClick r:id="rId1"/>
              </a:rPr>
              <a:t>http://nsidc.org/data/mod10a1v5.html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 for an example of a fairly well documented data set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If you still have questions, assess support availability and if acceptable ask!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Se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Helvetica Neue"/>
                <a:hlinkClick r:id="rId2"/>
              </a:rPr>
              <a:t>http://nsidc.org/data/g02199.html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 for an example of a poorly documented data set with an extremely low level of available support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Be aware that due to documentation and support limitations, the best data for your purposes may not be available to or usable by you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51" name="Picture 3" descr="MOD10A1.tiff"/>
          <p:cNvPicPr/>
          <p:nvPr/>
        </p:nvPicPr>
        <p:blipFill>
          <a:blip r:embed="rId3"/>
          <a:stretch/>
        </p:blipFill>
        <p:spPr>
          <a:xfrm>
            <a:off x="635040" y="0"/>
            <a:ext cx="11923560" cy="9691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2" name="Picture 4" descr="DustCounts.tiff"/>
          <p:cNvPicPr/>
          <p:nvPr/>
        </p:nvPicPr>
        <p:blipFill>
          <a:blip r:embed="rId4"/>
          <a:stretch/>
        </p:blipFill>
        <p:spPr>
          <a:xfrm>
            <a:off x="482760" y="0"/>
            <a:ext cx="11999880" cy="9753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A few words about data access and use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4" name="Content Placeholder 2"/>
          <p:cNvSpPr/>
          <p:nvPr/>
        </p:nvSpPr>
        <p:spPr>
          <a:xfrm>
            <a:off x="558720" y="2286000"/>
            <a:ext cx="11646000" cy="65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The trend in many disciplines is towards greater data sharing, but…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Norms vary by discipline (and country), for example you may need to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660240" indent="-26640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Submit an application for access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660240" indent="-26640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Sign a data transfer and usage agreement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660240" indent="-26640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Travel to the repository to obtain access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Moreover there are legitimate reasons for restricting access, for example: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660240" indent="-26640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To protect the confidentiality of human subjects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660240" indent="-26640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To protect the rights of local and traditional knowledge holders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660240" indent="-26640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  <a:ea typeface="ヒラギノ角ゴ ProN W3"/>
              </a:rPr>
              <a:t>To protect information that if released may cause harm (e.g., location of endangered species, sacred sites, etc.)</a:t>
            </a:r>
            <a:r>
              <a:rPr b="0" lang="en-US" sz="2400" spc="-1" strike="noStrike" baseline="30000">
                <a:solidFill>
                  <a:srgbClr val="606060"/>
                </a:solidFill>
                <a:latin typeface="Helvetica Neue"/>
                <a:ea typeface="ヒラギノ角ゴ ProN W3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660240" indent="-26640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 Light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It is your responsibility to understand and follow the norms for the data your are using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5" name="TextBox 1"/>
          <p:cNvSpPr/>
          <p:nvPr/>
        </p:nvSpPr>
        <p:spPr>
          <a:xfrm>
            <a:off x="605160" y="9296280"/>
            <a:ext cx="659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Helvetica Neue Light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Helvetica Neue Light"/>
              </a:rPr>
              <a:t> see IPY Data Policy at </a:t>
            </a:r>
            <a:r>
              <a:rPr b="0" i="1" lang="en-US" sz="1400" spc="-1" strike="noStrike">
                <a:solidFill>
                  <a:srgbClr val="000000"/>
                </a:solidFill>
                <a:latin typeface="Helvetica Neue Light"/>
              </a:rPr>
              <a:t>classic.</a:t>
            </a:r>
            <a:r>
              <a:rPr b="1" i="1" lang="en-US" sz="1400" spc="-1" strike="noStrike">
                <a:solidFill>
                  <a:srgbClr val="000000"/>
                </a:solidFill>
                <a:latin typeface="Helvetica Neue Light"/>
              </a:rPr>
              <a:t>ipy</a:t>
            </a:r>
            <a:r>
              <a:rPr b="0" i="1" lang="en-US" sz="1400" spc="-1" strike="noStrike">
                <a:solidFill>
                  <a:srgbClr val="000000"/>
                </a:solidFill>
                <a:latin typeface="Helvetica Neue Light"/>
              </a:rPr>
              <a:t>.org/Subcommittees/final_</a:t>
            </a:r>
            <a:r>
              <a:rPr b="1" i="1" lang="en-US" sz="1400" spc="-1" strike="noStrike">
                <a:solidFill>
                  <a:srgbClr val="000000"/>
                </a:solidFill>
                <a:latin typeface="Helvetica Neue Light"/>
              </a:rPr>
              <a:t>ipy</a:t>
            </a:r>
            <a:r>
              <a:rPr b="0" i="1" lang="en-US" sz="1400" spc="-1" strike="noStrike">
                <a:solidFill>
                  <a:srgbClr val="000000"/>
                </a:solidFill>
                <a:latin typeface="Helvetica Neue Light"/>
              </a:rPr>
              <a:t>_</a:t>
            </a:r>
            <a:r>
              <a:rPr b="1" i="1" lang="en-US" sz="1400" spc="-1" strike="noStrike">
                <a:solidFill>
                  <a:srgbClr val="000000"/>
                </a:solidFill>
                <a:latin typeface="Helvetica Neue Light"/>
              </a:rPr>
              <a:t>data</a:t>
            </a:r>
            <a:r>
              <a:rPr b="0" i="1" lang="en-US" sz="1400" spc="-1" strike="noStrike">
                <a:solidFill>
                  <a:srgbClr val="000000"/>
                </a:solidFill>
                <a:latin typeface="Helvetica Neue Light"/>
              </a:rPr>
              <a:t>_</a:t>
            </a:r>
            <a:r>
              <a:rPr b="1" i="1" lang="en-US" sz="1400" spc="-1" strike="noStrike">
                <a:solidFill>
                  <a:srgbClr val="000000"/>
                </a:solidFill>
                <a:latin typeface="Helvetica Neue Light"/>
              </a:rPr>
              <a:t>policy</a:t>
            </a:r>
            <a:r>
              <a:rPr b="0" i="1" lang="en-US" sz="1400" spc="-1" strike="noStrike">
                <a:solidFill>
                  <a:srgbClr val="000000"/>
                </a:solidFill>
                <a:latin typeface="Helvetica Neue Light"/>
              </a:rPr>
              <a:t>.pdf</a:t>
            </a:r>
            <a:endParaRPr b="0" lang="en-US" sz="1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2"/>
          <p:cNvSpPr/>
          <p:nvPr/>
        </p:nvSpPr>
        <p:spPr>
          <a:xfrm>
            <a:off x="635040" y="2438280"/>
            <a:ext cx="117982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"/>
              </a:rPr>
              <a:t>Would you really share your work if you thought others not going to give you credit?</a:t>
            </a: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"/>
              </a:rPr>
              <a:t>So cite the data you use!</a:t>
            </a: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7" name="Rectangle 3"/>
          <p:cNvSpPr/>
          <p:nvPr/>
        </p:nvSpPr>
        <p:spPr>
          <a:xfrm>
            <a:off x="482760" y="1752480"/>
            <a:ext cx="121158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 txBox="1"/>
          <p:nvPr/>
        </p:nvSpPr>
        <p:spPr>
          <a:xfrm>
            <a:off x="482400" y="2971440"/>
            <a:ext cx="11861640" cy="392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ata management funding is scarce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o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ite the data you use, so that they continue to be available!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Data Citation – Now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Currently data citation standards and requirements vary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907920" indent="-514080">
              <a:spcBef>
                <a:spcPts val="601"/>
              </a:spcBef>
              <a:buClr>
                <a:srgbClr val="606060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From journal to journal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907920" indent="-514080">
              <a:spcBef>
                <a:spcPts val="601"/>
              </a:spcBef>
              <a:buClr>
                <a:srgbClr val="606060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From repository to repository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907920" indent="-514080">
              <a:spcBef>
                <a:spcPts val="601"/>
              </a:spcBef>
              <a:buClr>
                <a:srgbClr val="606060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From discipline to discipline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907920" indent="-514080">
              <a:spcBef>
                <a:spcPts val="601"/>
              </a:spcBef>
              <a:buClr>
                <a:srgbClr val="606060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Some times from author to author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Do your best to honor these existing norm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What might a data citation look like?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907920" indent="-5140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Zwally, H.J., R. Schutz, C. Bentley, J. Bufton, T. Herring, J. Minster, J. Spinhirne, and R. Thomas. 2003. </a:t>
            </a:r>
            <a:r>
              <a:rPr b="0" i="1" lang="en-US" sz="2800" spc="-1" strike="noStrike">
                <a:solidFill>
                  <a:srgbClr val="606060"/>
                </a:solidFill>
                <a:latin typeface="Helvetica Neue"/>
              </a:rPr>
              <a:t>GLAS/ICESat L1A Global Altimetry Data V018, 15 October to 18 November 2003</a:t>
            </a:r>
            <a:r>
              <a:rPr b="0" lang="en-US" sz="2800" spc="-1" strike="noStrike">
                <a:solidFill>
                  <a:srgbClr val="606060"/>
                </a:solidFill>
                <a:latin typeface="Helvetica Neue"/>
              </a:rPr>
              <a:t>. National Snow and Ice Data Center. Data set accessed 2011-07-21 at doi:10.3334/NSIDC/gla01.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Data Citation – In the Near Futur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DataCite and other groups are working to make data citation a normal part of the scientific proces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For example, as of this year Thompson-Reuters Web of Science and Web of Knowledge include published data sets (i.e., that have a DOI)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The ESIP Federation is working on citation guidelines for both data producers and data user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See http://wiki.esipfed.org/index.php/Interagency_Data_Stewardship/Citations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2T17:48:58Z</dcterms:created>
  <dc:creator/>
  <dc:description/>
  <cp:keywords/>
  <dc:language>en-US</dc:language>
  <cp:lastModifiedBy>Ruth Duerr</cp:lastModifiedBy>
  <dcterms:modified xsi:type="dcterms:W3CDTF">2011-12-02T20:27:20Z</dcterms:modified>
  <cp:revision>74</cp:revision>
  <dc:subject/>
  <dc:title>ESIP Federation 101</dc:title>
</cp:coreProperties>
</file>